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23.jpeg" ContentType="image/jpeg"/>
  <Override PartName="/ppt/media/image21.gif" ContentType="image/gif"/>
  <Override PartName="/ppt/media/image19.png" ContentType="image/png"/>
  <Override PartName="/ppt/media/image20.gif" ContentType="image/gif"/>
  <Override PartName="/ppt/media/image18.gif" ContentType="image/gif"/>
  <Override PartName="/ppt/media/image17.jpeg" ContentType="image/jpeg"/>
  <Override PartName="/ppt/media/image14.gif" ContentType="image/gif"/>
  <Override PartName="/ppt/media/image1.jpeg" ContentType="image/jpeg"/>
  <Override PartName="/ppt/media/image7.jpeg" ContentType="image/jpeg"/>
  <Override PartName="/ppt/media/image22.gif" ContentType="image/gif"/>
  <Override PartName="/ppt/media/image4.jpeg" ContentType="image/jpeg"/>
  <Override PartName="/ppt/media/image13.gif" ContentType="image/gif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278-311B-48DA-AFC2-D2530B28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05A-BEDF-4CCC-9D26-AA1A2071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382-F2BF-4D34-83AC-4FB197A9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F35-23BF-49A0-A28D-BC8A4FB4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0C64-1BB8-4A5B-BD9D-0E1569D6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9A67-98C9-443E-ADBD-9BDD0BFD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AF67-FF96-4297-B771-19F04EAE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76F1-B2D1-4F30-80E6-A7C1EB77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6425-8047-424D-86BC-8F1E7EFE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A7DB-5C33-49AC-993C-94F8E55B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CE21-86DB-4D0C-A697-087BEC7F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6A3-5A46-4F34-B8E8-0BD6E04F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FF0D-43CB-495B-9E76-E85620EB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688A-C6D4-4C94-8C32-3FA43C65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F42E-DD43-4A1F-A427-178B35D5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96E7-1AD9-4A34-B1F3-D32F4D1D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5C2B-F7F3-4732-B7DB-0749DB06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C86C-45E6-468F-AF47-4B567F07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72F42-B0AE-4255-B673-CC5E22D7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3675-E235-44CC-BDC5-8BB40B41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357AA-2A29-41D8-A7DB-6CB71A4A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4329A-C051-418D-9285-AEE1D533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057-6B62-4C09-A322-FBCB33A6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DFCB-036A-4A08-9F83-5EF568AB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C7F5-0771-40FB-8DDC-796BB663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45D9-FF05-48AE-9E6B-A82D875C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763F-4604-49B9-BBA8-31A47927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8FC2-A9B5-413C-9A83-30CA2DCD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3956-48A9-49CA-B4C3-53C51B6B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A49CD-E4B8-43CD-9B7A-3B154158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1DB2-637B-4916-A8C9-1B5B8A8D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22C2-D808-4032-8869-478A4991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3C4A-E955-4DE3-A00F-071971B4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42F-BAB5-4C43-9963-A284820E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70FD7-DAA1-43DF-A84C-A35E1ED9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8F4B7-1B52-4B68-8A94-4AC78493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C1E91-BF70-4899-ACB2-EA32BABD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C011A-4560-4CBA-9067-AD6F4892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8EA0-1AD0-4966-B89A-8E31903C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07345-D2FB-4094-8AB3-4F58E377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EC4C9-4E80-456E-B571-4473770D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C0087-DECF-46A8-A0A4-5A789D1E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9A862-BDA8-4AD7-B248-8A275467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15F-45DF-4DE6-953A-873DA5C7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804-22AE-4AE6-9ED2-9F3D7FFF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954-0EBF-42EF-9752-298BC2AA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4A2-552E-47A1-8AB8-1ACCCFA4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96E-ADBC-4E03-BA32-269EFF95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1C7D17-5E37-4D83-B1AA-FF84337A5E3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195C1C-0A55-4B27-972C-509AE011AF6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B616AF-84B3-49D4-A057-95ECBE063E4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67FE3F-DA4C-4A65-87EE-201AAE6F819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одержимое 3" descr="image.gif"/>
          <p:cNvPicPr/>
          <p:nvPr/>
        </p:nvPicPr>
        <p:blipFill>
          <a:blip r:embed="rId1"/>
          <a:stretch/>
        </p:blipFill>
        <p:spPr>
          <a:xfrm>
            <a:off x="1785960" y="1643040"/>
            <a:ext cx="5880960" cy="28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Informal Roman"/>
              </a:rPr>
              <a:t>Guess a riddle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холм подняться я решил. Холм по-английски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одержимое 6"/>
          <p:cNvSpPr/>
          <p:nvPr/>
        </p:nvSpPr>
        <p:spPr>
          <a:xfrm>
            <a:off x="457200" y="2500200"/>
            <a:ext cx="4039920" cy="3164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92d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ился в поле. Все болит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ле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eeece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3">
                    <a:lumMod val="50000"/>
                  </a:schemeClr>
                </a:solidFill>
                <a:latin typeface="Arial Black"/>
              </a:rPr>
              <a:t>Make up sentences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192888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a lot of/ hills/ there are/ in the/ green/ country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/ a long/ your/ there is/ town/ riv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4">
                    <a:lumMod val="75000"/>
                  </a:schemeClr>
                </a:solidFill>
                <a:latin typeface="Chiller"/>
              </a:rPr>
              <a:t>Divide the descriptions into 2 columns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Содержимое 3"/>
          <p:cNvGraphicFramePr/>
          <p:nvPr/>
        </p:nvGraphicFramePr>
        <p:xfrm>
          <a:off x="457200" y="1600200"/>
          <a:ext cx="8229240" cy="197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714240" y="4357800"/>
            <a:ext cx="3857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3790800"/>
            <a:ext cx="385740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It is big. It is noisy. You can see a lot of cars, buses and tram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4933800"/>
            <a:ext cx="400032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It is quiet. It is peaceful. It is green. You can see a lot of apple trees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071960" y="3790800"/>
            <a:ext cx="47858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The streets are wide and long. There are many people in the streets. They are always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714920" y="4786200"/>
            <a:ext cx="4214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14880" y="4862520"/>
            <a:ext cx="45716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There are a lot of buildings. The houses are big and tall. You can see many bridg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43120" y="5861160"/>
            <a:ext cx="47858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The streets are small. There are many animal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7407E-006 L -2.77778E-006 -0.30463 E">
                                      <p:cBhvr>
                                        <p:cTn id="1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-0.03032 L 0.39184 -0.46088 E">
                                      <p:cBhvr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42048 -0.18912 E">
                                      <p:cBhvr>
                                        <p:cTn id="17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-0.45504 -0.24051 E">
                                      <p:cBhvr>
                                        <p:cTn id="1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 -0.03056 L 0.17344 -0.38473 E">
                                      <p:cBhvr>
                                        <p:cTn id="1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Mark the correct sentence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14280"/>
            <a:ext cx="777204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cow in the country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chemeClr val="accent1">
                    <a:lumMod val="50000"/>
                  </a:schemeClr>
                </a:solidFill>
                <a:latin typeface="Juice ITC"/>
              </a:rPr>
              <a:t>Complete the sentences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1571760"/>
            <a:ext cx="7772040" cy="39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(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ве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in the countr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of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рыбы) 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the river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garden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shop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2">
                    <a:lumMod val="75000"/>
                  </a:schemeClr>
                </a:solidFill>
                <a:latin typeface="Corbel"/>
              </a:rPr>
              <a:t>Mark the singular noun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2000160"/>
            <a:ext cx="777204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n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9862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6">
                    <a:lumMod val="50000"/>
                  </a:schemeClr>
                </a:solidFill>
                <a:latin typeface="Chiller"/>
              </a:rPr>
              <a:t>Which word is spelt in the wrong way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32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ver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ry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ve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not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ous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it because …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E:\Английский язык\Фотографии\мультгерои\image28.gif"/>
          <p:cNvPicPr/>
          <p:nvPr/>
        </p:nvPicPr>
        <p:blipFill>
          <a:blip r:embed="rId1"/>
          <a:stretch/>
        </p:blipFill>
        <p:spPr>
          <a:xfrm>
            <a:off x="4643280" y="42876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E:\Английский язык\Фотографии\мультгерои\нюша 2.png"/>
          <p:cNvPicPr/>
          <p:nvPr/>
        </p:nvPicPr>
        <p:blipFill>
          <a:blip r:embed="rId2"/>
          <a:stretch/>
        </p:blipFill>
        <p:spPr>
          <a:xfrm>
            <a:off x="4857840" y="2214720"/>
            <a:ext cx="3936240" cy="4214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E:\Английский язык\Фотографии\мультгерои\матроскин.gif"/>
          <p:cNvPicPr/>
          <p:nvPr/>
        </p:nvPicPr>
        <p:blipFill>
          <a:blip r:embed="rId3"/>
          <a:stretch/>
        </p:blipFill>
        <p:spPr>
          <a:xfrm>
            <a:off x="4714920" y="928800"/>
            <a:ext cx="3214440" cy="321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:\Английский язык\Фотографии\мультгерои\parrot kesha.gif"/>
          <p:cNvPicPr/>
          <p:nvPr/>
        </p:nvPicPr>
        <p:blipFill>
          <a:blip r:embed="rId4"/>
          <a:stretch/>
        </p:blipFill>
        <p:spPr>
          <a:xfrm>
            <a:off x="5000760" y="2286000"/>
            <a:ext cx="34239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одержимое 3" descr="thank_you_011.gif"/>
          <p:cNvPicPr/>
          <p:nvPr/>
        </p:nvPicPr>
        <p:blipFill>
          <a:blip r:embed="rId1"/>
          <a:stretch/>
        </p:blipFill>
        <p:spPr>
          <a:xfrm>
            <a:off x="2143080" y="1285920"/>
            <a:ext cx="4971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3" descr="good bye 13.jpg"/>
          <p:cNvPicPr/>
          <p:nvPr/>
        </p:nvPicPr>
        <p:blipFill>
          <a:blip r:embed="rId1"/>
          <a:stretch/>
        </p:blipFill>
        <p:spPr>
          <a:xfrm>
            <a:off x="2143080" y="928800"/>
            <a:ext cx="4643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Country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nd</a:t>
            </a: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chemeClr val="accent5">
                    <a:lumMod val="50000"/>
                  </a:schemeClr>
                </a:solidFill>
                <a:latin typeface="Cooper Black"/>
              </a:rPr>
              <a:t>Cit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3" descr="city_country.jpg"/>
          <p:cNvPicPr/>
          <p:nvPr/>
        </p:nvPicPr>
        <p:blipFill>
          <a:blip r:embed="rId1"/>
          <a:stretch/>
        </p:blipFill>
        <p:spPr>
          <a:xfrm>
            <a:off x="1523880" y="1720080"/>
            <a:ext cx="609552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rgbClr val="17375e"/>
                </a:solidFill>
                <a:latin typeface="Chiller"/>
              </a:rPr>
              <a:t>Choose the appropriate word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10717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ouses in the city are very …. 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small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angr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wind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icture 2"/>
          <p:cNvSpPr/>
          <p:nvPr/>
        </p:nvSpPr>
        <p:spPr>
          <a:xfrm>
            <a:off x="428760" y="3429000"/>
            <a:ext cx="3428640" cy="21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Which words are connected with </a:t>
            </a:r>
            <a:r>
              <a:rPr b="1" lang="en-US" sz="4400" spc="-1" strike="noStrike" cap="all">
                <a:solidFill>
                  <a:schemeClr val="accent1">
                    <a:lumMod val="75000"/>
                  </a:schemeClr>
                </a:solidFill>
                <a:latin typeface="Chiller"/>
              </a:rPr>
              <a:t>a city</a:t>
            </a: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42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dg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w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icture 2"/>
          <p:cNvSpPr/>
          <p:nvPr/>
        </p:nvSpPr>
        <p:spPr>
          <a:xfrm>
            <a:off x="428760" y="3500280"/>
            <a:ext cx="3571560" cy="2041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eeece1">
                <a:lumMod val="2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70c0"/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 как здесь красиво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ща там, здесь речка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одержимое 6"/>
          <p:cNvSpPr/>
          <p:nvPr/>
        </p:nvSpPr>
        <p:spPr>
          <a:xfrm>
            <a:off x="457200" y="2635560"/>
            <a:ext cx="4039920" cy="3029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080" y="1285920"/>
            <a:ext cx="4041360" cy="88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знали, сообщаю вам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ферма – это …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одержимое 7"/>
          <p:cNvSpPr/>
          <p:nvPr/>
        </p:nvSpPr>
        <p:spPr>
          <a:xfrm>
            <a:off x="4714920" y="2286000"/>
            <a:ext cx="390348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8064a2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030a0"/>
                </a:solidFill>
                <a:latin typeface="Arial Rounded MT Bold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хочет всем помочь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одержимое 6"/>
          <p:cNvSpPr/>
          <p:nvPr/>
        </p:nvSpPr>
        <p:spPr>
          <a:xfrm>
            <a:off x="714240" y="2500200"/>
            <a:ext cx="3357360" cy="3873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 наш город посетите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 это будет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7"/>
          <p:cNvSpPr/>
          <p:nvPr/>
        </p:nvSpPr>
        <p:spPr>
          <a:xfrm>
            <a:off x="4572000" y="271476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4f81bd">
                <a:lumMod val="40000"/>
                <a:lumOff val="6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a452a"/>
                </a:solidFill>
                <a:latin typeface="Berlin Sans FB Demi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еревню ехать очень рад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евня –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6" descr="8ZX4D00Z.jpg"/>
          <p:cNvPicPr/>
          <p:nvPr/>
        </p:nvPicPr>
        <p:blipFill>
          <a:blip r:embed="rId1"/>
          <a:stretch/>
        </p:blipFill>
        <p:spPr>
          <a:xfrm>
            <a:off x="427320" y="2500200"/>
            <a:ext cx="4073040" cy="3278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99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рень в саду цветет. Прохлада. Сад по-английски – это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ый вам задам вопро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ак назвали лошадь?» -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одержимое 6" descr="905478307.gif"/>
          <p:cNvPicPr/>
          <p:nvPr/>
        </p:nvPicPr>
        <p:blipFill>
          <a:blip r:embed="rId1"/>
          <a:stretch/>
        </p:blipFill>
        <p:spPr>
          <a:xfrm>
            <a:off x="457200" y="2594520"/>
            <a:ext cx="4039920" cy="3111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вою Буренку называю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ушка – коровушка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7" descr="1944.gif"/>
          <p:cNvPicPr/>
          <p:nvPr/>
        </p:nvPicPr>
        <p:blipFill>
          <a:blip r:embed="rId2"/>
          <a:stretch/>
        </p:blipFill>
        <p:spPr>
          <a:xfrm>
            <a:off x="5000760" y="257184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Harlow Solid Italic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рисуешь доченька?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очка, смотри! Я рисую дерево, по – английски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6" descr="tree2.gif"/>
          <p:cNvPicPr/>
          <p:nvPr/>
        </p:nvPicPr>
        <p:blipFill>
          <a:blip r:embed="rId1"/>
          <a:stretch/>
        </p:blipFill>
        <p:spPr>
          <a:xfrm>
            <a:off x="642960" y="2286000"/>
            <a:ext cx="3492000" cy="3951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у тропинки стадо пас. Тропинка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одержимое 7"/>
          <p:cNvSpPr/>
          <p:nvPr/>
        </p:nvSpPr>
        <p:spPr>
          <a:xfrm>
            <a:off x="5214960" y="2286000"/>
            <a:ext cx="264276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9bbb59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  <Words>45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3-04-29T21:30:40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